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AEF-16E6-4AFD-AD90-71BD5A3B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092-2EE7-4F78-A05E-35A25C9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B8E-BAE3-427A-975E-245B34B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794-7901-47FA-BE5E-AF1FE7B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74C5-666B-45E1-98A6-525300D2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CFC-D764-40A7-8BD8-2E8AB025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0AE0-0CD1-493F-9FB7-2DD38880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BEED-6EFF-4CBD-AC4C-63A3359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0652-6825-4EC1-A58B-4F6BB5F1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A2F5-BB14-4A34-ADE1-5DD2959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2DA-DCE7-4508-A2EF-10CBF73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F86-D6C1-4DE7-8291-1FCE1FA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043-CEE2-454A-902E-BCC540C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03B-F30E-439E-A8E0-55A574A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40AB-7C16-4F93-BEA7-8F8C88B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600-61B5-4AD1-A3A0-E6F7A4B9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B1B0-840B-47E2-8CD6-6DB2149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A58-1C1E-469E-BD09-10C50D6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B36-BF80-40F0-B017-75C90C7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9DF-8780-4A16-862C-934C1D6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F7C-D0D0-436F-AE47-74AFB154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38C-5A70-49AC-B371-8264974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D1E-6ABE-4B63-B23C-8DB72C4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3DD-0F36-4914-BD40-2B98A1D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9F7-1823-4039-B4F2-CC407F04D0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0C37-BD58-4286-9D1C-60493B3823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araohs and Pyramid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yramid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amids are HUGE stone structures built out of sands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ncient Egyptians were mummified they were put into their pyramids with everything they would need for the after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539800" cy="111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03840" y="228600"/>
            <a:ext cx="2540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s were built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tomb for the pharaohs in the after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EVERYTHING the pharaohs owned were put into their pyramid when they die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s was done so the pharaohs could use their things in the after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 was viewed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Y important in Ancient Egy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The pharaoh was viewed as the child of the RA (the SUN g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Egyptian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YTHEIS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mean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y had MANY G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EAT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biggest pyramid in Egypt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t was built for the Pharaoh KU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20 years to built the pyramid for this pharaoh, and 100,000 people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yramids had a huge impact on the way people made a living and the lives of the lower class in Ancient Egyptian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governme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egan to reb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gainst forcing citizens to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constructing these gigantic pyrami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der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pper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ided to get a new pharaoh, and based their capital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b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ld King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me to an end in 300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y and Cul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Egypti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ivilization was one of the longest in his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ivilization began abo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,000 B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lasted unt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0 B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nyone figure out how long that wa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- 2,700 yea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838080" cy="184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409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y and Culture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continued . . .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be focusing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cial world of Ancient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ery clear cut and defin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cial system set up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cient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ystem was set u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 the rich got richer and the poor got po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3640" cy="261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34320" y="838080"/>
            <a:ext cx="1879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araoh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e rulers of Ancient Egy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Egyptian civilization was doing VERY WELL and was flourishing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re were many wars between villa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ent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two largest villages, Upper and Lower Egypt joined together around 3,1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65888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96080" y="5587920"/>
            <a:ext cx="1054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is time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RST pharaoh, MENES, came to ru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aoh w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solute ru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mean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y controlled EVER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overnment the pharaoh would decide how Egypt’s affairs would be run at all leve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aoh was the first in line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MOS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ne w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Z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aoh also appointed govern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MARC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would report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Z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pharaoh also appointed SC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members of the government or people who help high official position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POINTED DIRECTLY BY THE PHAR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nyone think of a reason why this might not be good?  What could a problem be with the pharaoh appointing all of the high level offici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701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aohs al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uld tax al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cient Egypt was consider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ssession of the phara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haraoh could take whatever he wanted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whoever he wanted, INCLUDING OTHER PEOP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43800" y="609480"/>
            <a:ext cx="12574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aoh wanted and needed was received from the tax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were also use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d the pharaoh’s family and frie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tra (SURPL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of food went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 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o they would get a chance to at least have a little to e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xes were paid for with goods and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GOLD because money did not exist y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736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ncient Egyptian Social Pyrami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968400"/>
            <a:ext cx="75438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3:02:14Z</dcterms:created>
  <dc:creator>Cecil County</dc:creator>
  <dc:description/>
  <dc:language>en-US</dc:language>
  <cp:lastModifiedBy>Cecil County</cp:lastModifiedBy>
  <cp:lastPrinted>2007-10-08T16:17:07Z</cp:lastPrinted>
  <dcterms:modified xsi:type="dcterms:W3CDTF">2007-10-08T17:28:05Z</dcterms:modified>
  <cp:revision>3</cp:revision>
  <dc:subject/>
  <dc:title>Pharaohs and Pyramids!</dc:title>
</cp:coreProperties>
</file>